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0AF6-3FA4-437D-877E-C7A7D40E2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561E-C968-47E0-960A-797A2BE6C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C20E-F8B8-4CF5-97FD-1A16D5714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4790-DEBC-4037-899C-6D6004D2D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4DC2-4205-4ABB-8CE5-F2B9FB77E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ACFC-DAA1-4BAF-ABE6-6C9A7FCE7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08CF-4F40-48AA-AA57-8A53E759E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9906-E2F6-4C2A-9FE6-F254B8EB0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76D5-AA36-4CEC-96B4-B1AC2DE06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7D4A-604B-4FB4-8A0D-05BB3FA38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AE39-2A1F-4BB9-8D6E-3013CD81A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FA46-70F5-4BD1-A10C-B2A035A82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A3F1-9E1E-4134-BCFD-A1C0A442C18F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4640" y="72216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ervous Syste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863"/>
          <a:stretch/>
        </p:blipFill>
        <p:spPr>
          <a:xfrm>
            <a:off x="177840" y="2706840"/>
            <a:ext cx="6356160" cy="3956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25878" t="0" r="39379" b="0"/>
          <a:stretch/>
        </p:blipFill>
        <p:spPr>
          <a:xfrm>
            <a:off x="6434280" y="836640"/>
            <a:ext cx="2709720" cy="5843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5000" y="167472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Brain Development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0" t="0" r="0" b="3863"/>
          <a:stretch/>
        </p:blipFill>
        <p:spPr>
          <a:xfrm>
            <a:off x="3889440" y="3078000"/>
            <a:ext cx="5254560" cy="32702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dulla oblongata &amp; P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689292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Controls autonomic homeostatic function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eart &amp; blood vessel activity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reathin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wallowin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vomitin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ges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Relays information 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to &amp; from higher 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brain center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3946680" y="2003400"/>
            <a:ext cx="5029200" cy="3648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dbr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Involved in the integration of sensory information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regulation of </a:t>
            </a:r>
            <a:br>
              <a:rPr sz="3200"/>
            </a:b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visual reflexes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regulation of </a:t>
            </a:r>
            <a:br>
              <a:rPr sz="3200"/>
            </a:b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auditory </a:t>
            </a:r>
            <a:br>
              <a:rPr sz="3200"/>
            </a:b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reflexes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ticular Form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leep &amp; wakefulness produces patterns of electrical activity in the brai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corded as an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ElectroEncephaloGram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EEG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st dream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uring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REM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(rapid eye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vement)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lee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4876920" y="2895480"/>
            <a:ext cx="3830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0" t="0" r="68532" b="37943"/>
          <a:stretch/>
        </p:blipFill>
        <p:spPr>
          <a:xfrm>
            <a:off x="4898880" y="2260440"/>
            <a:ext cx="4202280" cy="45691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rebrum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8800" y="1371240"/>
            <a:ext cx="77598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st highly evolved structure of mammalian bra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erebrum divide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emispher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eft = right side of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d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ight = left side of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d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rpus callosum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jor connectio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etween 2 hemispher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0" r="68532" b="37943"/>
          <a:stretch/>
        </p:blipFill>
        <p:spPr>
          <a:xfrm>
            <a:off x="5702400" y="3162240"/>
            <a:ext cx="3398760" cy="36957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teralization of Brain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eft hemisphe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anguage, math, logic operations, processing of serial sequences of information, visual &amp; auditory detail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etailed activities required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or motor contro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ight hemispher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attern recognition, spatial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lationships, non-verbal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deation, emotional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cessing, parallel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cessing of informa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rebrum specializ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gions of the cerebrum are specialized for different fun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ob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ronta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empora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ccipita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arieta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32635" t="0" r="-119" b="4487"/>
          <a:stretch/>
        </p:blipFill>
        <p:spPr>
          <a:xfrm>
            <a:off x="3809880" y="2467080"/>
            <a:ext cx="53341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rcRect l="0" t="0" r="0" b="3026"/>
          <a:stretch/>
        </p:blipFill>
        <p:spPr>
          <a:xfrm>
            <a:off x="838080" y="685800"/>
            <a:ext cx="754560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mbic syste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0" t="0" r="0" b="3144"/>
          <a:stretch/>
        </p:blipFill>
        <p:spPr>
          <a:xfrm>
            <a:off x="2036880" y="2463840"/>
            <a:ext cx="6599160" cy="4394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727200" y="1393920"/>
            <a:ext cx="811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diates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basic emotion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(fear, anger), involved in emotional bonding, establishes emotional memor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937040"/>
            <a:ext cx="241632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Amygdala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involved in recognizing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motional content of facial express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mplest Nerve Circui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5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5400" t="0" r="0" b="4702"/>
          <a:stretch/>
        </p:blipFill>
        <p:spPr>
          <a:xfrm>
            <a:off x="104760" y="2316240"/>
            <a:ext cx="6033960" cy="4419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38080" y="13716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Reflex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, or automatic respon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37400" y="2008080"/>
            <a:ext cx="33066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rapid respons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3960" indent="-17136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utomate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gnal only goes to spinal cor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3960" indent="-171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 higher level process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adaptive val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3960" indent="-171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sential action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3960" indent="-171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on’t need to think or make decisions about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738360" indent="-16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blink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738360" indent="-16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balan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738360" indent="-16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pupil dil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738360" indent="-16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art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342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ye Blink or Pain Withdrawal Reflex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0" t="10504" r="0" b="7504"/>
          <a:stretch/>
        </p:blipFill>
        <p:spPr>
          <a:xfrm>
            <a:off x="619200" y="1963800"/>
            <a:ext cx="7664400" cy="4713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016760" y="6219720"/>
            <a:ext cx="109656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muscle)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053040" y="4438800"/>
            <a:ext cx="30024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5520" y="5278320"/>
            <a:ext cx="8024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pinal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73040" y="1816200"/>
            <a:ext cx="1482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terneuron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7840" y="1771560"/>
            <a:ext cx="81468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ray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200" y="2347920"/>
            <a:ext cx="81468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87600" y="4618080"/>
            <a:ext cx="9043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uron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37160" y="2865600"/>
            <a:ext cx="105228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uron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88760" y="2544840"/>
            <a:ext cx="1154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skin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656240" y="3450960"/>
            <a:ext cx="30168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218360" y="2751120"/>
            <a:ext cx="7286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94600" y="5964120"/>
            <a:ext cx="2998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071800" y="2128680"/>
            <a:ext cx="985680" cy="152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036800" y="4557600"/>
            <a:ext cx="1440" cy="6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397160" y="2368080"/>
            <a:ext cx="299880" cy="11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952560" y="2946240"/>
            <a:ext cx="1116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85120" y="1832040"/>
            <a:ext cx="1128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38040" y="436680"/>
            <a:ext cx="8410680" cy="630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72880" y="876240"/>
            <a:ext cx="2058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43320" y="1643040"/>
            <a:ext cx="103716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ntral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rvous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3880" y="3452760"/>
            <a:ext cx="681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5800" y="3281400"/>
            <a:ext cx="8024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pinal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08560" y="1652760"/>
            <a:ext cx="130536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ipheral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rvous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07400" y="4381560"/>
            <a:ext cx="20293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omatic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voluntary)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2560" y="3332160"/>
            <a:ext cx="12139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tor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82640" y="3332160"/>
            <a:ext cx="12139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nsory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28320" y="4381560"/>
            <a:ext cx="20293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utonomic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involuntary)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53000" y="5894280"/>
            <a:ext cx="158580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ympathetic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06640" y="5900760"/>
            <a:ext cx="2132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rasympathetic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1520" y="4413240"/>
            <a:ext cx="3989520" cy="1923480"/>
          </a:xfrm>
          <a:prstGeom prst="rect">
            <a:avLst/>
          </a:prstGeom>
          <a:solidFill>
            <a:srgbClr val="ffea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Sympathet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rousal &amp; energy produc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ight or flight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Parasympathet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alming &amp; back to maintenan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st &amp; digest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4544280" y="560520"/>
            <a:ext cx="4115520" cy="6106680"/>
            <a:chOff x="4544280" y="560520"/>
            <a:chExt cx="4115520" cy="61066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rcRect l="25878" t="0" r="39379" b="0"/>
            <a:stretch/>
          </p:blipFill>
          <p:spPr>
            <a:xfrm>
              <a:off x="4934520" y="560520"/>
              <a:ext cx="2832840" cy="610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9" name=""/>
            <p:cNvGrpSpPr/>
            <p:nvPr/>
          </p:nvGrpSpPr>
          <p:grpSpPr>
            <a:xfrm>
              <a:off x="4544280" y="803880"/>
              <a:ext cx="4115520" cy="5127120"/>
              <a:chOff x="4544280" y="803880"/>
              <a:chExt cx="4115520" cy="5127120"/>
            </a:xfrm>
          </p:grpSpPr>
          <p:sp>
            <p:nvSpPr>
              <p:cNvPr id="260" name=""/>
              <p:cNvSpPr/>
              <p:nvPr/>
            </p:nvSpPr>
            <p:spPr>
              <a:xfrm>
                <a:off x="4691160" y="4762800"/>
                <a:ext cx="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44280" y="803880"/>
                <a:ext cx="924120" cy="2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erebrum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545000" y="1148040"/>
                <a:ext cx="1070640" cy="2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erebellum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44280" y="1510920"/>
                <a:ext cx="1081080" cy="2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pinal cord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70680" y="1562040"/>
                <a:ext cx="75672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ervical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rves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71040" y="2434680"/>
                <a:ext cx="78876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oraci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rves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53760" y="3322800"/>
                <a:ext cx="67572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umba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rves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97800" y="4047120"/>
                <a:ext cx="78876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emoral 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rve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597800" y="4705200"/>
                <a:ext cx="68796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ciatic 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rve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97080" y="5517360"/>
                <a:ext cx="54180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ibial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rve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592680" y="5519160"/>
                <a:ext cx="997920" cy="15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456240" y="4660560"/>
                <a:ext cx="106488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40760" y="4029480"/>
                <a:ext cx="1085040" cy="13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49440" y="960480"/>
                <a:ext cx="782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6252480" y="1262160"/>
                <a:ext cx="780840" cy="2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263640" y="1528560"/>
                <a:ext cx="66852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7212960" y="1275840"/>
                <a:ext cx="603360" cy="782640"/>
                <a:chOff x="7212960" y="1275840"/>
                <a:chExt cx="603360" cy="7826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212960" y="1275840"/>
                  <a:ext cx="504000" cy="782640"/>
                </a:xfrm>
                <a:custGeom>
                  <a:avLst/>
                  <a:gdLst/>
                  <a:ahLst/>
                  <a:rect l="l" t="t" r="r" b="b"/>
                  <a:pathLst>
                    <a:path w="329" h="510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510"/>
                      </a:lnTo>
                      <a:lnTo>
                        <a:pt x="197" y="51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7716960" y="1679400"/>
                  <a:ext cx="993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364520" y="2110320"/>
                <a:ext cx="440280" cy="945720"/>
                <a:chOff x="7364520" y="2110320"/>
                <a:chExt cx="440280" cy="9457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364520" y="2110320"/>
                  <a:ext cx="353160" cy="945720"/>
                </a:xfrm>
                <a:custGeom>
                  <a:avLst/>
                  <a:gdLst/>
                  <a:ahLst/>
                  <a:rect l="l" t="t" r="r" b="b"/>
                  <a:pathLst>
                    <a:path w="230" h="616">
                      <a:moveTo>
                        <a:pt x="115" y="0"/>
                      </a:moveTo>
                      <a:lnTo>
                        <a:pt x="230" y="0"/>
                      </a:lnTo>
                      <a:lnTo>
                        <a:pt x="230" y="616"/>
                      </a:lnTo>
                      <a:lnTo>
                        <a:pt x="0" y="61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>
                  <a:off x="7717680" y="2550600"/>
                  <a:ext cx="871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375680" y="3096720"/>
                <a:ext cx="415800" cy="693360"/>
                <a:chOff x="7375680" y="3096720"/>
                <a:chExt cx="415800" cy="69336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7702560" y="3436560"/>
                  <a:ext cx="889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375680" y="3096720"/>
                  <a:ext cx="327240" cy="693360"/>
                </a:xfrm>
                <a:custGeom>
                  <a:avLst/>
                  <a:gdLst/>
                  <a:ahLst/>
                  <a:rect l="l" t="t" r="r" b="b"/>
                  <a:pathLst>
                    <a:path w="213" h="451">
                      <a:moveTo>
                        <a:pt x="0" y="0"/>
                      </a:moveTo>
                      <a:lnTo>
                        <a:pt x="213" y="0"/>
                      </a:lnTo>
                      <a:lnTo>
                        <a:pt x="213" y="451"/>
                      </a:lnTo>
                      <a:lnTo>
                        <a:pt x="8" y="45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5" name=""/>
          <p:cNvSpPr/>
          <p:nvPr/>
        </p:nvSpPr>
        <p:spPr>
          <a:xfrm>
            <a:off x="127080" y="3448080"/>
            <a:ext cx="5638680" cy="2911320"/>
          </a:xfrm>
          <a:prstGeom prst="wedgeEllipseCallout">
            <a:avLst>
              <a:gd name="adj1" fmla="val 60782"/>
              <a:gd name="adj2" fmla="val -113087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Any Questions?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ypes of neur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12000" r="0" b="12000"/>
          <a:stretch/>
        </p:blipFill>
        <p:spPr>
          <a:xfrm>
            <a:off x="318960" y="1481040"/>
            <a:ext cx="8410680" cy="4794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4800" y="3821040"/>
            <a:ext cx="1200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ndrite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5240" y="1668600"/>
            <a:ext cx="219528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nsory neuron</a:t>
            </a:r>
            <a:endParaRPr b="0" lang="en-US" sz="2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07840" y="1539720"/>
            <a:ext cx="1157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ll body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7240" y="2828880"/>
            <a:ext cx="6224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44560" y="2075040"/>
            <a:ext cx="1157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ll body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80320" y="3052800"/>
            <a:ext cx="162540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erneuron</a:t>
            </a:r>
            <a:endParaRPr b="0" lang="en-US" sz="2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2480" y="4111560"/>
            <a:ext cx="6379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58160" y="6075360"/>
            <a:ext cx="190116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2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59080" y="3971880"/>
            <a:ext cx="1200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ndrite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9960" y="2955960"/>
            <a:ext cx="158760" cy="857160"/>
          </a:xfrm>
          <a:custGeom>
            <a:avLst/>
            <a:gdLst/>
            <a:ahLst/>
            <a:rect l="l" t="t" r="r" b="b"/>
            <a:pathLst>
              <a:path w="100" h="540">
                <a:moveTo>
                  <a:pt x="0" y="0"/>
                </a:moveTo>
                <a:lnTo>
                  <a:pt x="0" y="540"/>
                </a:lnTo>
                <a:lnTo>
                  <a:pt x="100" y="25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533480" y="2535120"/>
            <a:ext cx="11916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00400" y="1703160"/>
            <a:ext cx="249480" cy="5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566040" y="2230560"/>
            <a:ext cx="541080" cy="64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318440" y="4762440"/>
            <a:ext cx="566640" cy="48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5800" y="3233880"/>
            <a:ext cx="501480" cy="777600"/>
          </a:xfrm>
          <a:custGeom>
            <a:avLst/>
            <a:gdLst/>
            <a:ahLst/>
            <a:rect l="l" t="t" r="r" b="b"/>
            <a:pathLst>
              <a:path w="316" h="490">
                <a:moveTo>
                  <a:pt x="17" y="0"/>
                </a:moveTo>
                <a:lnTo>
                  <a:pt x="0" y="490"/>
                </a:lnTo>
                <a:lnTo>
                  <a:pt x="316" y="3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92000" y="3321000"/>
            <a:ext cx="187200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associative”</a:t>
            </a:r>
            <a:endParaRPr b="0" lang="en-US" sz="23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71440" y="6456240"/>
            <a:ext cx="1332000" cy="26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phalization = Brain evolu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47960" y="2079720"/>
            <a:ext cx="2304720" cy="3177000"/>
            <a:chOff x="147960" y="2079720"/>
            <a:chExt cx="2304720" cy="317700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rcRect l="22500" t="0" r="22500" b="0"/>
            <a:stretch/>
          </p:blipFill>
          <p:spPr>
            <a:xfrm>
              <a:off x="349200" y="2079720"/>
              <a:ext cx="2103480" cy="28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47960" y="4997520"/>
              <a:ext cx="117432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nidaria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57560" y="4119480"/>
              <a:ext cx="5418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rv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31760" y="3728880"/>
              <a:ext cx="393840" cy="4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93680" y="5356080"/>
            <a:ext cx="2263680" cy="1313640"/>
          </a:xfrm>
          <a:prstGeom prst="rect">
            <a:avLst/>
          </a:prstGeom>
          <a:solidFill>
            <a:srgbClr val="cfdbf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Simplest nervous syste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 control of complex actio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51040" y="5342040"/>
            <a:ext cx="3022560" cy="1313640"/>
          </a:xfrm>
          <a:prstGeom prst="rect">
            <a:avLst/>
          </a:prstGeom>
          <a:solidFill>
            <a:srgbClr val="cfdbf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More organiz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but still based on nerve nets; supports more complex movem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520" y="1393920"/>
            <a:ext cx="8923320" cy="764640"/>
          </a:xfrm>
          <a:prstGeom prst="rect">
            <a:avLst/>
          </a:prstGeom>
          <a:solidFill>
            <a:srgbClr val="ffea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4600">
              <a:lnSpc>
                <a:spcPct val="100000"/>
              </a:lnSpc>
              <a:buClr>
                <a:srgbClr val="2a2e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ephalization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= clustering of neurons in “brain” at front (anterior) end of bilaterally symmetrical animal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18120" y="2327400"/>
            <a:ext cx="2847960" cy="2929320"/>
            <a:chOff x="6018120" y="2327400"/>
            <a:chExt cx="2847960" cy="29293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rcRect l="11250" t="0" r="11250" b="0"/>
            <a:stretch/>
          </p:blipFill>
          <p:spPr>
            <a:xfrm>
              <a:off x="6018120" y="2327400"/>
              <a:ext cx="2847960" cy="27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773760" y="4738680"/>
              <a:ext cx="1951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atworm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atyhelminth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19360" y="3176640"/>
              <a:ext cx="114984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rve cord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72200" y="3381480"/>
              <a:ext cx="676440" cy="615960"/>
            </a:xfrm>
            <a:custGeom>
              <a:avLst/>
              <a:gdLst/>
              <a:ahLst/>
              <a:rect l="l" t="t" r="r" b="b"/>
              <a:pathLst>
                <a:path w="974" h="889">
                  <a:moveTo>
                    <a:pt x="361" y="680"/>
                  </a:moveTo>
                  <a:lnTo>
                    <a:pt x="0" y="0"/>
                  </a:lnTo>
                  <a:lnTo>
                    <a:pt x="974" y="8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01920" y="2432160"/>
              <a:ext cx="1093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ociativ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uron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781760" y="2739960"/>
              <a:ext cx="4320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869080" y="5342040"/>
            <a:ext cx="3081240" cy="1313640"/>
          </a:xfrm>
          <a:prstGeom prst="rect">
            <a:avLst/>
          </a:prstGeom>
          <a:solidFill>
            <a:srgbClr val="cfdbf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Simplest, defined central nervous syste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re complex muscle contro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5280" y="1990440"/>
            <a:ext cx="3440160" cy="3424680"/>
            <a:chOff x="2555280" y="1990440"/>
            <a:chExt cx="3440160" cy="3424680"/>
          </a:xfrm>
        </p:grpSpPr>
        <p:sp>
          <p:nvSpPr>
            <p:cNvPr id="150" name=""/>
            <p:cNvSpPr/>
            <p:nvPr/>
          </p:nvSpPr>
          <p:spPr>
            <a:xfrm>
              <a:off x="3388680" y="4997520"/>
              <a:ext cx="1469880" cy="25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chinoderm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3"/>
            <a:srcRect l="14628" t="3000" r="10128" b="0"/>
            <a:stretch/>
          </p:blipFill>
          <p:spPr>
            <a:xfrm rot="19357200">
              <a:off x="3030480" y="2498760"/>
              <a:ext cx="2489400" cy="24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822920" y="3611520"/>
              <a:ext cx="93168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adial nerve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42560" y="3770280"/>
              <a:ext cx="57816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rve</a:t>
              </a:r>
              <a:br>
                <a:rPr sz="1700"/>
              </a:b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ibs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4229280" y="3655800"/>
              <a:ext cx="55224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9483800">
              <a:off x="3532320" y="3685680"/>
              <a:ext cx="485640" cy="443160"/>
            </a:xfrm>
            <a:custGeom>
              <a:avLst/>
              <a:gdLst/>
              <a:ahLst/>
              <a:rect l="l" t="t" r="r" b="b"/>
              <a:pathLst>
                <a:path w="967" h="796">
                  <a:moveTo>
                    <a:pt x="967" y="0"/>
                  </a:moveTo>
                  <a:lnTo>
                    <a:pt x="0" y="57"/>
                  </a:lnTo>
                  <a:lnTo>
                    <a:pt x="666" y="7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041080" y="177696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here sense organs a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816640" y="2077560"/>
            <a:ext cx="4103280" cy="3207240"/>
            <a:chOff x="2816640" y="2077560"/>
            <a:chExt cx="4103280" cy="320724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rcRect l="0" t="10504" r="0" b="7504"/>
            <a:stretch/>
          </p:blipFill>
          <p:spPr>
            <a:xfrm rot="20532000">
              <a:off x="3068640" y="2574360"/>
              <a:ext cx="359892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463640" y="4324320"/>
              <a:ext cx="9471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llusk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09440" y="3033720"/>
              <a:ext cx="5601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04520" y="2198520"/>
              <a:ext cx="547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ian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x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49800" y="3289320"/>
              <a:ext cx="29196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75040" y="2668320"/>
              <a:ext cx="24300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717520" y="1830240"/>
            <a:ext cx="3319920" cy="3743280"/>
            <a:chOff x="5717520" y="1830240"/>
            <a:chExt cx="3319920" cy="374328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rcRect l="30379" t="0" r="33751" b="0"/>
            <a:stretch/>
          </p:blipFill>
          <p:spPr>
            <a:xfrm>
              <a:off x="6835680" y="1830240"/>
              <a:ext cx="178596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8228880" y="2531880"/>
              <a:ext cx="5601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99240" y="2646360"/>
              <a:ext cx="59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11960" y="3074760"/>
              <a:ext cx="8254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ntra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rve cord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59640" y="3225600"/>
              <a:ext cx="585720" cy="695520"/>
            </a:xfrm>
            <a:custGeom>
              <a:avLst/>
              <a:gdLst/>
              <a:ahLst/>
              <a:rect l="l" t="t" r="r" b="b"/>
              <a:pathLst>
                <a:path w="624" h="739">
                  <a:moveTo>
                    <a:pt x="0" y="315"/>
                  </a:moveTo>
                  <a:lnTo>
                    <a:pt x="624" y="0"/>
                  </a:lnTo>
                  <a:lnTo>
                    <a:pt x="50" y="7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7520" y="4609800"/>
              <a:ext cx="12459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thropo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435720" y="5127480"/>
            <a:ext cx="2473200" cy="1618560"/>
          </a:xfrm>
          <a:prstGeom prst="rect">
            <a:avLst/>
          </a:prstGeom>
          <a:solidFill>
            <a:srgbClr val="cfdbf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Further brain developm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anglia = neuron clusters along C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6440" y="1400040"/>
            <a:ext cx="6503760" cy="45972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4600">
              <a:lnSpc>
                <a:spcPct val="10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crease in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interneuron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in brain reg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84120" y="2057400"/>
            <a:ext cx="3034800" cy="3070080"/>
            <a:chOff x="384120" y="2057400"/>
            <a:chExt cx="3034800" cy="3070080"/>
          </a:xfrm>
        </p:grpSpPr>
        <p:pic>
          <p:nvPicPr>
            <p:cNvPr id="174" name="" descr=""/>
            <p:cNvPicPr/>
            <p:nvPr/>
          </p:nvPicPr>
          <p:blipFill>
            <a:blip r:embed="rId3"/>
            <a:srcRect l="16878" t="0" r="31501" b="0"/>
            <a:stretch/>
          </p:blipFill>
          <p:spPr>
            <a:xfrm>
              <a:off x="384120" y="2057400"/>
              <a:ext cx="2112840" cy="30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680120" y="4341960"/>
              <a:ext cx="132948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arthworm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8680" y="2106720"/>
              <a:ext cx="25502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ntral nervous system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525240" y="2225160"/>
              <a:ext cx="31752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0360" y="3162240"/>
              <a:ext cx="10461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ipheral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rv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866240" y="3294000"/>
              <a:ext cx="484200" cy="262080"/>
            </a:xfrm>
            <a:custGeom>
              <a:avLst/>
              <a:gdLst/>
              <a:ahLst/>
              <a:rect l="l" t="t" r="r" b="b"/>
              <a:pathLst>
                <a:path w="642" h="132">
                  <a:moveTo>
                    <a:pt x="0" y="0"/>
                  </a:moveTo>
                  <a:lnTo>
                    <a:pt x="642" y="0"/>
                  </a:lnTo>
                  <a:lnTo>
                    <a:pt x="181" y="1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35080" y="5127480"/>
            <a:ext cx="2865240" cy="1313640"/>
          </a:xfrm>
          <a:prstGeom prst="rect">
            <a:avLst/>
          </a:prstGeom>
          <a:solidFill>
            <a:srgbClr val="cfdbf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More complex brai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onnected to all other parts of body by peripheral nerv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35400" y="5127480"/>
            <a:ext cx="2865240" cy="1618560"/>
          </a:xfrm>
          <a:prstGeom prst="rect">
            <a:avLst/>
          </a:prstGeom>
          <a:solidFill>
            <a:srgbClr val="cfdbf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More complex brains in predator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st sophisticated invertebrate nervous syste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phalization = Brain evolu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 of vertebrate br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16000" y="1536840"/>
            <a:ext cx="8351280" cy="5320800"/>
            <a:chOff x="216000" y="1536840"/>
            <a:chExt cx="8351280" cy="532080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rcRect l="0" t="12000" r="0" b="3000"/>
            <a:stretch/>
          </p:blipFill>
          <p:spPr>
            <a:xfrm>
              <a:off x="216000" y="1536840"/>
              <a:ext cx="8351280" cy="53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52160" y="2374920"/>
              <a:ext cx="8830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Shark</a:t>
              </a:r>
              <a:endParaRPr b="0" lang="en-US" sz="2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30040" y="3191400"/>
              <a:ext cx="7048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Frog</a:t>
              </a:r>
              <a:endParaRPr b="0" lang="en-US" sz="2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1880" y="3994200"/>
              <a:ext cx="5112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0" lang="en-US" sz="2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25800" y="5755320"/>
              <a:ext cx="6346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0" lang="en-US" sz="2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19800" y="4349160"/>
              <a:ext cx="10753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2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1680" y="4361040"/>
              <a:ext cx="131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pinal cord</a:t>
              </a:r>
              <a:endParaRPr b="0" lang="en-US" sz="1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9160" y="4755600"/>
              <a:ext cx="280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Hind: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Medulla oblongata</a:t>
              </a:r>
              <a:endParaRPr b="0" lang="en-US" sz="1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0960" y="5453640"/>
              <a:ext cx="14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ptic tectum</a:t>
              </a:r>
              <a:endParaRPr b="0" lang="en-US" sz="1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1680" y="5110560"/>
              <a:ext cx="199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Hind: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Cerebellum</a:t>
              </a:r>
              <a:endParaRPr b="0" lang="en-US" sz="1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0600" y="5808600"/>
              <a:ext cx="100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idbrain</a:t>
              </a:r>
              <a:endParaRPr b="0" lang="en-US" sz="1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1680" y="6110280"/>
              <a:ext cx="180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Fore: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Cerebrum</a:t>
              </a:r>
              <a:endParaRPr b="0" lang="en-US" sz="1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1320" y="6400080"/>
              <a:ext cx="164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lfactory tract</a:t>
              </a:r>
              <a:endParaRPr b="0" lang="en-US" sz="1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56040" y="3585960"/>
              <a:ext cx="14637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Crocodile</a:t>
              </a:r>
              <a:endParaRPr b="0" lang="en-US" sz="2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8480" y="2815560"/>
            <a:ext cx="1625400" cy="4748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hindbrain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96920" y="1863000"/>
            <a:ext cx="1684800" cy="4748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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forebrain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50560" y="5288760"/>
            <a:ext cx="1814400" cy="4748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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forebrain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10120" y="1937520"/>
            <a:ext cx="3141720" cy="70308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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forebrain</a:t>
            </a:r>
            <a:br>
              <a:rPr sz="2500"/>
            </a:br>
            <a:r>
              <a:rPr b="1" lang="en-US" sz="2500" spc="-1" strike="noStrike">
                <a:solidFill>
                  <a:srgbClr val="0f116a"/>
                </a:solidFill>
                <a:latin typeface="Arial"/>
              </a:rPr>
              <a:t>dominant cerebrum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uman br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3863"/>
          <a:stretch/>
        </p:blipFill>
        <p:spPr>
          <a:xfrm>
            <a:off x="324000" y="1596960"/>
            <a:ext cx="800100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0" t="0" r="0" b="3863"/>
          <a:stretch/>
        </p:blipFill>
        <p:spPr>
          <a:xfrm>
            <a:off x="4362480" y="2641680"/>
            <a:ext cx="4692600" cy="292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unctional divisions of br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11360" y="142236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indbra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volutionary older structures of the br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gulate essential autonomic &amp; integrative functio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rainste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dulla oblongat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idbra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erebellu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alamus, hypothalamu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0" t="0" r="0" b="3863"/>
          <a:stretch/>
        </p:blipFill>
        <p:spPr>
          <a:xfrm>
            <a:off x="4451400" y="874800"/>
            <a:ext cx="4692600" cy="29210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rainstem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120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The “lower brain”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medulla oblongata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pons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midbrain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Function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homeostasis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coordination of movement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conduction of impulses to higher brain centers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berly Area School District</cp:lastModifiedBy>
  <cp:lastPrinted>2007-12-06T17:41:09Z</cp:lastPrinted>
  <dcterms:modified xsi:type="dcterms:W3CDTF">2008-09-24T18:42:20Z</dcterms:modified>
  <cp:revision>86</cp:revision>
  <dc:subject/>
  <dc:title>Nervous System</dc:title>
</cp:coreProperties>
</file>